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303-1CD0-4A57-9C8A-B1A4B2B0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E16-18C3-45B5-8E62-9C0D2D14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6FC-7147-4995-AC49-59E1E710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DC4-6592-4360-8C71-D3B70D36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B3D4-0263-4C55-9B76-E7AF6214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5D21-31E5-4968-8F87-2697DE2D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6FFE-0D2C-4C72-9A16-A82C380B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2B99-0284-40FC-888B-530E053A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DDA8-47F1-4326-B35D-3F284050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AEB0-A455-41FB-8A0E-E0FC3659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4432-D4B2-4D35-BD26-A81F7B2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DDA-B33D-477D-A3A0-D0DF5B37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17E9-E0B3-4662-8827-06FF1B1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C967-5FF6-4C17-80C3-EDD96416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5A5B-04DF-48D7-8435-97181D74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4A02-A844-4C8E-AEFF-E5D21FC7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03FD-C727-406A-BD09-E39D5C25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A9D-EA92-4788-A3AA-A2083980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A9F-111A-48A2-A42F-8D0C144C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66F-3A3E-4889-85D5-8CE9E568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B44-7E4F-406C-8B75-A1A50203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839-3374-4E25-8F0B-ACE24062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13D-3200-4882-9FF6-26CF0610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C98-5660-4D95-8CE4-6BF98039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E021-31DA-46A8-84F5-95521CEADC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7661-3413-48C8-816D-0B27A5CBF6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7560" y="150840"/>
            <a:ext cx="60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РЕПУБЛИЧКИ ЗАВОД ЗА СТАТИСТИ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88800" y="60944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Београд, јун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86600" y="5486400"/>
            <a:ext cx="1295280" cy="779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2057400"/>
            <a:ext cx="87631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пис становништва, домаћинстава и станова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Arial"/>
              </a:rPr>
              <a:t>СТАНОВ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ffffff"/>
                </a:solidFill>
                <a:latin typeface="Arial"/>
              </a:rPr>
              <a:t>Коришћење и настањена лица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 насељ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952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4952880"/>
            <a:ext cx="5335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219320"/>
          <a:ext cx="8915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57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Напуштени станов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4114800"/>
          <a:ext cx="891540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114800"/>
                    <a:ext cx="8915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431520" y="380844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6320" y="380844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cc66"/>
                </a:solidFill>
                <a:latin typeface="Arial"/>
              </a:rPr>
              <a:t>према типу насељ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440" y="1295280"/>
          <a:ext cx="910440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295280"/>
                    <a:ext cx="910440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68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Станови који се повремено користе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219320"/>
          <a:ext cx="9144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75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 rot="16200000">
            <a:off x="4000320" y="-4000680"/>
            <a:ext cx="11430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Станови за одмор и рекреацију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8000" y="3971880"/>
          <a:ext cx="9036000" cy="250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3971880"/>
                    <a:ext cx="903600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580920" y="365436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240" y="3603600"/>
            <a:ext cx="21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cc66"/>
                </a:solidFill>
                <a:latin typeface="Arial"/>
              </a:rPr>
              <a:t>према типу насељ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43080" y="1841400"/>
          <a:ext cx="389880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841400"/>
                    <a:ext cx="389880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8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"/>
          <p:cNvSpPr/>
          <p:nvPr/>
        </p:nvSpPr>
        <p:spPr>
          <a:xfrm>
            <a:off x="4572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9880" y="1676520"/>
          <a:ext cx="5334120" cy="286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676520"/>
                    <a:ext cx="533412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324120" y="167652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нтралн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03848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ојво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2760" y="403848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рад Беог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4267080"/>
          <a:ext cx="3848400" cy="243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267080"/>
                    <a:ext cx="3848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495680" y="4254480"/>
          <a:ext cx="4318200" cy="269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95680" y="4254480"/>
                    <a:ext cx="43182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rot="16200000">
            <a:off x="3733560" y="-3733920"/>
            <a:ext cx="16765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Станови у којима се искључиво обавља делатност 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ffcc66"/>
                </a:solidFill>
                <a:latin typeface="Arial"/>
              </a:rPr>
              <a:t>према типу насеља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440000"/>
          <a:ext cx="918216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00"/>
                    <a:ext cx="91821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203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0" y="5562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публика Србија  Централна Србија       Војводина             Град Беог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Друге просторије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6200000">
            <a:off x="4076640" y="-4076280"/>
            <a:ext cx="9907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ПОПИС 2002. – Планиране публикациј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447920"/>
            <a:ext cx="84582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2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Врста,својина и опремљеност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насељим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– Станови за стално становањеи и површина према врсти стана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опремљености инсталацијама и помоћним просторијама и број станова у својини физичких лица</a:t>
            </a:r>
            <a:r>
              <a:rPr b="0" lang="sr-Latn-CS" sz="2400" spc="-1" strike="noStrike">
                <a:solidFill>
                  <a:srgbClr val="ffffff"/>
                </a:solidFill>
                <a:latin typeface="Cir Times_New_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551400"/>
            <a:ext cx="8320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3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Величина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квалитет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година изградње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војина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домаћинства и лица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општинама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181480"/>
            <a:ext cx="83822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4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 ЗА ОДМОР И РЕКРЕАЦИЈУ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Величин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квалитет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година изградње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и врста зграде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насељим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213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0199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505320" y="-1371240"/>
            <a:ext cx="213336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362320"/>
            <a:ext cx="70866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ублички завод за статистику Србиј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еоград, Милана Ракића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л. 2412-9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w.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: stat@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4800600"/>
            <a:ext cx="5715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Одељење за односе са јавношћ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л./факс  2401-2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w.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: stat@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15200" y="2819520"/>
            <a:ext cx="1295280" cy="779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7360" y="225360"/>
            <a:ext cx="8483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РЕПУБЛИКА СРБИЈА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РЕПУБЛИЧКИ ЗАВОД ЗА СТАТИСТИКУ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2057400"/>
          <a:ext cx="8458200" cy="406404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1939680"/>
                <a:gridCol w="1793880"/>
              </a:tblGrid>
              <a:tr h="812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стан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градск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ељ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осталим насељ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Републик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565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25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39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Централн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38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72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66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Војв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26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53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73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89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28600" y="1447920"/>
          <a:ext cx="8915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915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9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 rot="16200000">
            <a:off x="4113360" y="411336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962160" y="-3962520"/>
            <a:ext cx="12193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838080" y="1905120"/>
          <a:ext cx="7467840" cy="4267080"/>
        </p:xfrm>
        <a:graphic>
          <a:graphicData uri="http://schemas.openxmlformats.org/drawingml/2006/table">
            <a:tbl>
              <a:tblPr/>
              <a:tblGrid>
                <a:gridCol w="2436840"/>
                <a:gridCol w="1179720"/>
                <a:gridCol w="1257120"/>
                <a:gridCol w="1336680"/>
                <a:gridCol w="1257480"/>
              </a:tblGrid>
              <a:tr h="650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дина попи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публик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Централн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јв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рад Беогр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-4680" y="6537240"/>
            <a:ext cx="8996400" cy="320400"/>
            <a:chOff x="-4680" y="6537240"/>
            <a:chExt cx="8996400" cy="320400"/>
          </a:xfrm>
        </p:grpSpPr>
        <p:sp>
          <p:nvSpPr>
            <p:cNvPr id="103" name=""/>
            <p:cNvSpPr/>
            <p:nvPr/>
          </p:nvSpPr>
          <p:spPr>
            <a:xfrm>
              <a:off x="-4680" y="654336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724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858000" y="14446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У хиљада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 ЗА СТАЛНО СТАНОВАЊЕ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ПОДАЦИ ИЗ ПОПИС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1371600"/>
          <a:ext cx="9144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-4680" y="6537240"/>
            <a:ext cx="8996400" cy="320400"/>
            <a:chOff x="-4680" y="6537240"/>
            <a:chExt cx="8996400" cy="320400"/>
          </a:xfrm>
        </p:grpSpPr>
        <p:sp>
          <p:nvSpPr>
            <p:cNvPr id="111" name=""/>
            <p:cNvSpPr/>
            <p:nvPr/>
          </p:nvSpPr>
          <p:spPr>
            <a:xfrm>
              <a:off x="-4680" y="654336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724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 ЗА СТАЛНО СТАНОВАЊЕ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ПОДАЦИ ИЗ ПОПИС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7280" y="1420920"/>
            <a:ext cx="14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У хиљада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УКУПНО СТАН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8160" y="419040"/>
          <a:ext cx="918216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419040"/>
                    <a:ext cx="918216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547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У мил</a:t>
            </a: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21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23" name=""/>
          <p:cNvGraphicFramePr/>
          <p:nvPr/>
        </p:nvGraphicFramePr>
        <p:xfrm>
          <a:off x="0" y="3124080"/>
          <a:ext cx="9177480" cy="358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124080"/>
                    <a:ext cx="9177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58128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У 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812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СТАНОВИ ЗА СТАЛНО СТАНОВ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31840" y="1795320"/>
          <a:ext cx="886464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795320"/>
                    <a:ext cx="886464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261040" y="16747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31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 rot="16200000">
            <a:off x="3924360" y="-3924000"/>
            <a:ext cx="129528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СТАНОВИ ПРЕМА КОРИШЋЕЊУ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523880"/>
          <a:ext cx="8731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731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38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3355200" y="14461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Arial"/>
              </a:rPr>
              <a:t>Станови</a:t>
            </a:r>
            <a:br>
              <a:rPr sz="4400"/>
            </a:br>
            <a:r>
              <a:rPr b="1" lang="sr-CS" sz="2400" spc="-1" strike="noStrike">
                <a:solidFill>
                  <a:srgbClr val="ffcc66"/>
                </a:solidFill>
                <a:latin typeface="Arial"/>
              </a:rPr>
              <a:t>ненастањени и који се користе повремено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01520" y="1117440"/>
          <a:ext cx="9042480" cy="28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117440"/>
                    <a:ext cx="9042480" cy="28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4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66"/>
                </a:solidFill>
                <a:latin typeface="Arial"/>
              </a:rPr>
              <a:t>Привремено ненастањени станов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6360" y="4267080"/>
          <a:ext cx="918396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60" y="4267080"/>
                    <a:ext cx="9183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355200" y="39607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8960" y="4111560"/>
            <a:ext cx="230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ffcc66"/>
                </a:solidFill>
                <a:latin typeface="Arial"/>
              </a:rPr>
              <a:t>према</a:t>
            </a:r>
            <a:r>
              <a:rPr b="0" lang="sr-CS" sz="1800" spc="-1" strike="noStrike">
                <a:solidFill>
                  <a:srgbClr val="ffcc66"/>
                </a:solidFill>
                <a:latin typeface="Arial"/>
              </a:rPr>
              <a:t> типу насељ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6:21:45Z</dcterms:created>
  <dc:creator>user</dc:creator>
  <dc:description/>
  <dc:language>en-US</dc:language>
  <cp:lastModifiedBy>Natalija</cp:lastModifiedBy>
  <dcterms:modified xsi:type="dcterms:W3CDTF">2004-06-25T13:54:23Z</dcterms:modified>
  <cp:revision>142</cp:revision>
  <dc:subject/>
  <dc:title>PowerPoint Presentation</dc:title>
</cp:coreProperties>
</file>